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29F-9D91-4D8B-94E4-62204E06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6F5-D07F-4008-8863-5BD371E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93D-1E04-467C-885D-BE47E10E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421-51CD-4AE6-AD98-09E19BB7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BBFF-5AFB-4851-AA39-08F798D4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7EA8-3B74-4DFA-9813-8B1A027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57D5-2710-4B89-A97D-A6906CC1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F64D-6685-442B-93F3-52C4FF5A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37C5-E58A-4997-A0C8-A6B2B7EB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2099-C4D7-4903-BBF5-73F0CEEE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B3F9-20F2-4C77-B9CD-242B5EB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ACA-7CDF-470F-A1A2-6B7AFEB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52B2-D002-4E81-89B1-E0B63EC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FA30-A3E2-4ED1-8DA6-A6CFF4C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06E6-E224-4900-8FD3-73F940D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103E-FE1C-43A4-B887-EE9A3A20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16B6-4D09-4934-ADBB-DBF09748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845-E8FB-46A3-9D3F-28832A9E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AD2-98D7-44C3-A8DD-42E83250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9B7-8F54-4B31-81DA-90F026FC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282-C231-43BC-940F-984052F1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53D-E4D3-4BC3-8C50-89CAB8D2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D4B-69D0-4085-94C4-7D5747D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DD1-9FE4-4C9A-AA93-02BE4FB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CB1D-58EE-4313-BFC6-B1BA28A42712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3226-63AE-41D4-8294-9676294A0807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Sir, We Would See Jesus”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Life of Christ, Part 1</a:t>
            </a:r>
            <a:br>
              <a:rPr sz="4400"/>
            </a:b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7720" y="373356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arter 9, Lesson 2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uke 1:57-80; Matt. 1:18-25; Luke 2:1-38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ges 8-11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3FF5-10B4-42D1-8E7C-2C29B3C7B71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At The Temple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0060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3A3-213C-46E9-8AD0-ABCD744B0165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5562720" y="1371600"/>
            <a:ext cx="331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ingdom of Hero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re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3B7-E80B-4CAC-BFA5-E1380E8444D1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7162920" cy="543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286000" y="0"/>
            <a:ext cx="43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llow The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914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zare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1D2-8D8D-43EF-B465-6985B2650575}" type="slidenum">
              <a:t>12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733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9205-F537-4F92-8E2F-8FD7CE41B78F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ohn the Baptist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1:57-80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3920"/>
            <a:ext cx="8305920" cy="51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ircumcised on the eight 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d “John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acharias began to speak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 spread in all the hill country of Jude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acharias praised God for Jesu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 has raised up a horn of salvation in the house of Davi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 remembered His holy covenant He swore to Abraha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926-90EC-45DC-9132-A84EF7411009}" type="slidenum">
              <a:t>3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ohn the Baptist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1:76-80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4520" indent="-34452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acharias praised his own s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lled him - “the prophet of the Most High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ohn’s mission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prepare the people for the Lord’s com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give the people knowledge of salv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guide their feet into the way of peac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make the crooked ways straight, the rough ways smooth (Luke 3:4-5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ohn grew up living in the deser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BAA-5AF8-48F4-894D-A74681550E9D}" type="slidenum">
              <a:t>4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esus</a:t>
            </a:r>
            <a:br>
              <a:rPr sz="2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att. 1:18-25; Luke 2:8-20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angel announced the birth of Jesus to Joseph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ry was three months alo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seph concerned about her unfaithfulnes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gel appeared to Joseph to expla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Isaiah 7:14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virgin will give birth to a s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 will be called Immanuel – “God with us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8FE-1FB8-4A98-8922-03678631FACF}" type="slidenum">
              <a:t>5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esus</a:t>
            </a:r>
            <a:br>
              <a:rPr sz="2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att. 2:1; Luke 2:1-7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birthplace was to be Bethlehem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Micah 5:2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me of David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seph and Mary was in Bethlehem when Jesus was bor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esus was wrapped in cloths and placed in a mange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he third and final promise to Abraham has been fulfilled – the Seed!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5A7-7B37-4985-A356-C5CEA999DB62}" type="slidenum">
              <a:t>6</a:t>
            </a:fld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esus</a:t>
            </a:r>
            <a:br>
              <a:rPr sz="2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2:8-20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gels announced the birth of Jesus to some Shephe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ere told where He was born, what He was wearing and where He was lay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ent straight to Bethlehe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und things just as they had been tol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read the word to othe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lorified and praised Go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ry treasured these things in her hear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79D-15B0-4A66-B741-8866D82FE216}" type="slidenum">
              <a:t>7</a:t>
            </a:fld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esus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2:21-24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ircumcised on the eighth 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d “Jesus”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sentation of Jesus at the temp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 40 days after birt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offer purification sacrific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dicate Jesus to God as their first-bor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BA0-B038-4167-A74D-0F2110477022}" type="slidenum">
              <a:t>8</a:t>
            </a:fld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Prophecies About Jesus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2:25-35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meon’s words about the bab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 had told him that he would not see death until he saw the Chris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Child would be the fall and rise of many in 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sword would even pierce Mary’s own sou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na the prophetes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 old; never left the templ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e spoke word of redemp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708-C290-44DB-8671-BC93665E42FE}" type="slidenum">
              <a:t>9</a:t>
            </a:fld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2:35:03Z</dcterms:created>
  <dc:creator> Tab Vines</dc:creator>
  <dc:description/>
  <dc:language>en-US</dc:language>
  <cp:lastModifiedBy>Frank D Vines</cp:lastModifiedBy>
  <dcterms:modified xsi:type="dcterms:W3CDTF">2006-07-09T13:48:36Z</dcterms:modified>
  <cp:revision>15</cp:revision>
  <dc:subject/>
  <dc:title>Sir, We Would See Jesus</dc:title>
</cp:coreProperties>
</file>